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22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13.gif" ContentType="image/gi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AE7-DEB8-4D11-ABC4-CB8F09F9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4C1-95B3-4C4B-B52D-90E17AAD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FE4-C318-4C31-A89B-F7D1AB02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B5C-2C89-4E1E-B404-16C71FE9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E0646-4AD5-43A3-A9C0-8458AC29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BF392-D7C9-469C-BBD5-C665DEEE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863CD-757C-4B71-B72E-9A4D9BB7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3D7A7-8CB4-4932-A8D3-F173A134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E873F-3C1B-4CEF-A549-311D156D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F4C1B-60C1-46ED-83DB-FF911099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C4D5B-E669-40F7-9558-61C73686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DAB-51E9-49B3-990B-106E7335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51D9F-5EA8-4338-8930-3BDE2DB1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7EC66-878E-4B5D-9911-F3395410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D8001-EE89-416C-B15A-50313E7B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66CF2-FE80-4ADA-BD4D-994D6316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EC132-1851-473B-804D-0D6974AF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0987-ED54-4551-8D16-80FCAD25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258-2885-49F5-BEC7-09521EE2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76A-3AB6-4FA8-964C-121EF7C4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D6D-6787-4530-B479-B717F034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2A2-76E8-4FC2-982E-E1378CD4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BFA-395F-43C9-AB00-200FB570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506-52D0-4C1D-B5EE-33D49370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8160-0550-4AAB-B1CC-A039DC31C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89E3-9082-413F-B8FB-7DDC6FDD55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gi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Gesundheit Projec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Kaptiel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Was tust du f</a:t>
            </a:r>
            <a:r>
              <a:rPr b="0" lang="en-US" sz="4000" spc="-1" strike="noStrike">
                <a:solidFill>
                  <a:srgbClr val="ffffff"/>
                </a:solidFill>
                <a:latin typeface="Agency FB"/>
                <a:ea typeface="Arial"/>
              </a:rPr>
              <a:t>ü</a:t>
            </a: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r deine Gesundheit??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lie Fryszt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gel, Period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36A6-B33F-4826-8974-45DE282434B7}" type="datetime">
              <a:rPr b="0" lang="en-US" sz="32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F</a:t>
            </a:r>
            <a:r>
              <a:rPr b="0" lang="en-US" sz="4400" spc="-1" strike="noStrike">
                <a:solidFill>
                  <a:srgbClr val="ffffff"/>
                </a:solidFill>
                <a:latin typeface="Agency FB"/>
                <a:ea typeface="Arial"/>
              </a:rPr>
              <a:t>ü</a:t>
            </a: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r Meine Gesundheit tue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r meine Gesundheit, ich esse viel Obst und Gemuse, denn das it sehr gut für die Baseball traineri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1490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934320" y="152280"/>
            <a:ext cx="1904760" cy="716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52280" y="2895480"/>
            <a:ext cx="4191120" cy="2793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 rot="19979400">
            <a:off x="4876920" y="2742840"/>
            <a:ext cx="226836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 rot="1584600">
            <a:off x="7009920" y="4647960"/>
            <a:ext cx="17589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V="1">
            <a:off x="1066680" y="4343040"/>
            <a:ext cx="1143000" cy="1523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F</a:t>
            </a:r>
            <a:r>
              <a:rPr b="0" lang="en-US" sz="4400" spc="-1" strike="noStrike">
                <a:solidFill>
                  <a:srgbClr val="ffffff"/>
                </a:solidFill>
                <a:latin typeface="Agency FB"/>
                <a:ea typeface="Arial"/>
              </a:rPr>
              <a:t>ü</a:t>
            </a: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r Meine Gesundheit tue.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3885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h jogge jedes Wochende, weil joggen gut für meine Gesundheit ist und für Sport mach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657600" y="4800600"/>
            <a:ext cx="1371600" cy="1201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162920" y="5392800"/>
            <a:ext cx="1293840" cy="1065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172200" y="1523880"/>
            <a:ext cx="2362320" cy="1724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362320" y="1295280"/>
            <a:ext cx="1334880" cy="1819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3733920" y="2666880"/>
            <a:ext cx="90936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80880" y="4648320"/>
            <a:ext cx="2057400" cy="1846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 flipV="1">
            <a:off x="6400440" y="4800600"/>
            <a:ext cx="60948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52880" y="4724280"/>
            <a:ext cx="68580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980720" y="2743200"/>
            <a:ext cx="1143000" cy="1219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F</a:t>
            </a:r>
            <a:r>
              <a:rPr b="0" lang="en-US" sz="4400" spc="-1" strike="noStrike">
                <a:solidFill>
                  <a:srgbClr val="ffffff"/>
                </a:solidFill>
                <a:latin typeface="Agency FB"/>
                <a:ea typeface="Arial"/>
              </a:rPr>
              <a:t>ü</a:t>
            </a: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r Meine Gesundheit tue.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h rauche nichts!!! Rauchen ist sehr nicht gut für Freunde Besuche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410080" y="3048120"/>
            <a:ext cx="3322800" cy="2465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657600" y="3505320"/>
            <a:ext cx="1697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Ich findest es gut, dass du nichts Alkohol trink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Klar, du nicht trinke Alkohol! Alkohol ist sehr nichts gut fur Freunde Besuchen, und Intervie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3657600" cy="2963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572000" y="2971800"/>
            <a:ext cx="2529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153280" y="685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sse es, dann du rauchst!!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 rauchst?!?! Rauchen ist SEHR nicht gut für deise Lungen und deise Gesundheit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28600" y="4343400"/>
            <a:ext cx="2708280" cy="2066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276720" y="3124080"/>
            <a:ext cx="2582640" cy="257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746760" y="4724280"/>
            <a:ext cx="23972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will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ch werde meinen Hund mehr zu Fuß gehen!! Meine Hund ist Fett und ich leibe jogge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05520" y="3127320"/>
            <a:ext cx="2981160" cy="2976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37116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will nichts…. dann…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h will nicht zu Droggen zu tun und Alkohol trinken,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weil meine Freunde werden mich nicht mög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193840" cy="2297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2690640" cy="2469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162920" y="2666880"/>
            <a:ext cx="11858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S END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15:42Z</dcterms:created>
  <dc:creator>CUSD220</dc:creator>
  <dc:description/>
  <dc:language>en-US</dc:language>
  <cp:lastModifiedBy>CUSD220</cp:lastModifiedBy>
  <dcterms:modified xsi:type="dcterms:W3CDTF">2012-02-24T17:28:24Z</dcterms:modified>
  <cp:revision>13</cp:revision>
  <dc:subject/>
  <dc:title>Gesundheit Project Kaptial 4  Was tust du für deine Gesundheit???</dc:title>
</cp:coreProperties>
</file>